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BD77-B6F5-42BA-82DC-C13F3DBA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622C-D4DE-4CB2-9606-FC3E6DC37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525D-81CF-4D6D-A40B-93B71510B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5E46-4BDE-4489-B1DF-6C544BF20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2B09-1231-492A-AED9-6B8459908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4165-6BD1-47CA-BB84-8370D445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33E8-D8A7-4547-AB39-249E258CB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BB602-F415-425C-98E3-E5775D94A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37B5-5BCE-4083-84BB-58A187E41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C8E1-6385-438A-9D8A-3D454800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6D77-E74E-44F1-B5DE-A3A8D30F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6DAE-5200-4065-B9E1-E12639C8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FB347-550F-42D6-BB86-E2AEBD7B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3C25-E7F8-4819-A1B6-510B55D2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367D-2CD2-49A2-9096-E958653D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DB25-E4E8-4ABD-A895-ACEE0449C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68E3-B277-4CA3-ACB9-B90BD1F76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3EC5-2524-44D9-A79C-171492CE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4812-18DF-4341-9579-10ED5DD5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D909-29A4-4300-A6D2-E198603B4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B366-276A-45A0-90D9-2A107695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0E95-F4AD-4BC6-8569-4875B6A8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1D8F-AB0D-4EF2-B56E-AFB738853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3BE1-CE42-405C-8B25-C5F7CB4A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A9E9-A0FC-42BF-B12D-0D65C4A08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D438-7534-4145-ADDA-3657E2F970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78695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6600"/>
                </a:solidFill>
                <a:uFillTx/>
                <a:latin typeface="American Typewriter Condensed"/>
              </a:rPr>
              <a:t>Tropopause </a:t>
            </a:r>
            <a:br>
              <a:rPr sz="3600"/>
            </a:br>
            <a:r>
              <a:rPr b="1" lang="en-US" sz="3200" spc="-1" strike="noStrike">
                <a:solidFill>
                  <a:srgbClr val="996600"/>
                </a:solidFill>
                <a:latin typeface="American Typewriter Condensed"/>
              </a:rPr>
              <a:t>Boundary between the stratosphere and troposphere where the temperature stops dececreasing.</a:t>
            </a:r>
            <a:endParaRPr b="1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914400" y="2895480"/>
            <a:ext cx="7315200" cy="2955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609960" y="6404040"/>
            <a:ext cx="263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merican Typewriter Condensed"/>
              </a:rPr>
              <a:t>CHANEL EL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16:35:32Z</dcterms:created>
  <dc:creator>PA Department of Education</dc:creator>
  <dc:description/>
  <dc:language>en-US</dc:language>
  <cp:lastModifiedBy>PA Department of Education</cp:lastModifiedBy>
  <dcterms:modified xsi:type="dcterms:W3CDTF">2009-05-13T16:44:03Z</dcterms:modified>
  <cp:revision>1</cp:revision>
  <dc:subject/>
  <dc:title>PowerPoint Presentation</dc:title>
</cp:coreProperties>
</file>